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F33-3A1B-4D26-8DD5-EFCD7DCF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071-719D-440E-83FB-E7C46558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F96-6F85-47B6-B31B-C4A5E22B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807-A787-47AD-B7BE-3F7D610E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657C-02C6-492F-972A-A67D04FA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C332-6A57-4E30-9887-65F63228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2584-D10D-4797-A4CB-FBD4B94A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82DD-B2DF-46DA-A0FE-8DBE5783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8046-CA45-4F54-AB45-DF1D0066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D939-A45A-47F4-A992-A221BEC6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D81F-467F-46EC-B1F0-6465E220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F62-4DEB-4CB2-9D9F-7E4E4186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84FA-6181-49EC-B1A3-92DAAF61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B4AF-C02E-415B-8BDF-E3322799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B908-89EE-4318-A4F6-2B9C2CB9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026A-BAEC-4FE2-9B66-644248AD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BF7F-99D9-4857-94CE-55D305F7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4D1B6-7EA0-4A0F-A490-0A03D19A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3C7B-46D2-4D26-BF77-084B896A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9315-0329-4D13-B8B2-D888B394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F37E-0C78-4091-82B5-3B1D23CE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539C2-AD12-4597-B858-CBB14E78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E10-3B34-4661-81C9-3F6087D0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51471-35DC-4CDE-89DF-432D9AE0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8FA0-7086-4A3C-A4AF-2CA9DAB7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C8C5D-576F-42C9-B82E-6F13E3A8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14CA-8044-4A87-98C9-184FA918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36C1-270B-408B-8134-B5F17161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767C5-3997-4449-8E92-5A5AD26C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90D0-1E6D-458F-8A1C-7522CFC0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0BD53-303C-438A-AA6E-4B38B4C1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56DEE-6E66-40B6-B3F3-D6B53B5C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61436-8DE6-467E-8FED-32C55D59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E35-66F7-4A22-8CA9-7CDBD118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EB98D-454F-4C79-BC73-DD7DEDA5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E6FA2-904B-4487-B23C-F77D4422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435BD-969D-426D-901B-2143D1A1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EBF43-F448-47D4-9F1E-2FF1AB4B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F44E5-8917-42A8-B815-88A73A32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90F3D-22F8-49D1-947E-E41EB6DC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AD1D-7F95-4387-9FF8-6B79803D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4A301-74F0-4C10-B2ED-D26E4498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C0764-6294-4C53-BE04-53804EDA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A57-0625-42A1-A5D7-04B92F19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9DA-D7F3-4DFD-888F-04B13662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AF5-1B23-4B3A-A0FE-404324FB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108-B09F-4324-90D0-71ECF81F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69A-7062-4242-BD21-BADACF83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42A6-5665-4E53-AF84-058B703F6A67}" type="slidenum">
              <a:rPr b="0" lang="es-MX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9d4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9D29-EA10-4108-A72D-25B43775F49E}" type="slidenum">
              <a:rPr b="0" lang="es-MX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9d4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926E-AEBE-4AB9-8CC2-00677EB5B989}" type="slidenum">
              <a:rPr b="0" lang="es-MX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ABD8-2839-45DA-8EF5-DA2CC7A68887}" type="slidenum">
              <a:rPr b="0" lang="es-MX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Administración del Riesg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323232"/>
                </a:solidFill>
                <a:latin typeface="Calibri"/>
              </a:rPr>
              <a:t>Herramientas para Analizar el Riesgo del Proyecto</a:t>
            </a:r>
            <a:endParaRPr b="0" lang="en-US" sz="45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isten varias herramientas útiles para analizar el riesgo de un proye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a de ellas es el diagrama de tornado, que representa un análisis de sensibilidad de las variables de entra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ada variable de entrada varía en secuencia; al iniciar, cada variable se hace igual a un valor estimado bajo y después a un valor al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323232"/>
                </a:solidFill>
                <a:latin typeface="Calibri"/>
              </a:rPr>
              <a:t>Tipos de Contrato y Riesgo Relativo</a:t>
            </a:r>
            <a:endParaRPr b="0" lang="en-US" sz="45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cliente o dueño de un proyecto puede negociar varios tipos de contratos. Influyen en la administración de riesgo; por ejemplo, el contrato de precio fijo requiere que el contratista absorba todos los costos que excedan al precio negociado del contra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el contratista acepta el riesgo, en este caso, el cliente debe esperar pagar un precio más alto que si aceptara pagar los costos exceden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323232"/>
                </a:solidFill>
                <a:latin typeface="Calibri"/>
              </a:rPr>
              <a:t>Riesgos en Proyectos de Desarrollo de Nuevos Productos</a:t>
            </a:r>
            <a:endParaRPr b="0" lang="en-US" sz="45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iek (2001) identificó 3 tipos de riesgo que observó al estudiar 15 desarrollos de nuevos productos y los clasificó en la siguiente taxonomí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iesgo Técn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iesgo Comerc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iesgo Relacionado con el personal de desarrollo de nuevos produc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iesgo técnic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es el asociado con el desarrollo y aplicación de nuevas tecnologí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iesgo comercial: Riek documenta varios casos en que la tecnología estaba adelantada a su tiempo, en los que se pasaron por alto efectos secundarios o terciarios, o no se apreciaron cabalmente las tecnologí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Otros problemas que documenta tiene una relación directa con asuntos de personal e incluyen la pérdida de personal clave y las malas políticas de asignación y program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0:37:07Z</dcterms:created>
  <dc:creator>Carlos David</dc:creator>
  <dc:description/>
  <dc:language>en-US</dc:language>
  <cp:lastModifiedBy>Carlos David</cp:lastModifiedBy>
  <dcterms:modified xsi:type="dcterms:W3CDTF">2008-11-05T00:53:28Z</dcterms:modified>
  <cp:revision>2</cp:revision>
  <dc:subject/>
  <dc:title>Capítulo 7</dc:title>
</cp:coreProperties>
</file>