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DF11A-2D28-4BF4-93D5-4CCBF3AF4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4A516-2257-4796-891B-397CF5F1D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C6E51-5F27-40C1-B61B-B9B836210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232F3-A8F8-41A1-9BB4-24FC4323D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F362B-9564-4D1A-A149-BB2957AF0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9011D-D8D6-4881-AA0C-02F4284E8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72BF8-C266-4306-8F10-0CA371182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BA804-C5CE-4190-BBAB-79F3B4333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CE49C-167D-480F-A9D6-7E5C48D3A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52E60-B64C-433D-90E7-A8E9BE7C8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9B7A0-9FD0-4E35-828A-84E28CFD8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371F8-57FF-4C71-84D2-75B134DD7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3B66D-C2EF-4D97-9B17-56ED8B39E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3F705-F285-4A30-9F87-9560D377C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812BE-0668-472A-8751-823DC8181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144FF-92D6-42E5-AF48-84ADFA074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80022-C140-4131-8F45-E53D99B62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05BB21-AC4A-4701-B4B5-3127019826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5ABFBD-EE0C-48E2-AF83-59DFC2D1F4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F6EAC3-01B3-4672-90E1-7E9DD248B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0768B-0427-44F8-A22B-245190AE2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D36C6E-E6BF-4688-8E92-F1F044B5E9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C31AF-1E7E-4BF4-BA10-7FD96D15E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3FAAEB-2F6A-45A9-9C7D-17E479693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0F55D-BD46-48EF-A5AA-DC16FFD34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A9D4D-B345-4C4A-8C52-2BA8F12900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E5126-587A-4189-A731-73861F9D1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A308BE-4ED7-4A4D-809C-58287C6DB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16A541-0BE9-4789-A222-4DA4081288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EBB01E-2F87-4E6F-8BD8-F2969C5534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ED10C0-D827-4315-8B5F-0E5FBE3B12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419DD8-10D0-4F81-854D-25D4A4A0BC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A96421-9972-4445-A512-BAA102C9C2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1907D-8363-4B04-9D89-FF46A3574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0F6342-B1CC-4C12-8F19-AE79C873B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2E9639-5EC1-444E-BFD7-C2C9065A00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B4A07-B035-4C31-957C-3FC74D2B52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8327B-2A74-49C5-A03F-8A1D3A192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925AAE-1192-4BAA-A9CF-3CE2DD6E3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746861-B149-4958-BA95-32A0D1B9C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99318A-D9D7-496D-936E-A9517594C5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2EAE59-F0CE-4F95-A173-F46D8DBBD0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674DDC-C668-4375-957D-359FF12D1E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623DE3-BE61-47AB-9423-04A4425EB4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3B94B-94F6-45ED-A6BA-826D6CC34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7E8BD1-C363-4982-B4C5-41851269D1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9C1A94-A579-43A6-96DD-1D32F3EC1D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78F01B-15DA-42C2-8A16-20A920E6A6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9A537D-8260-4A56-8FFA-C320C16634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9D035A-1BF1-4CD1-99AD-03CD36759F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72F7AE-5D11-4E4D-B017-782AAC14F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D80B7-00B4-4827-9E28-9EE4B3518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F57B6-2683-4E81-89B3-8020299D8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79B2DF-89BF-47B4-B713-0C8FBEE3B6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8AFAB9-EF33-4C36-BB7B-8D05EE00C9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6DDCB-2162-4A06-A73F-26F60E501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F585BC-A6E2-4989-844A-DBB4F1E52D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4B4FE-4FD7-4EBD-A186-AE483A7E8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F7640-5962-4A7C-A3D5-58E7050AE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17777-F697-44F7-A9B0-1DB7B24C1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35EA-BCEF-4FB2-876C-2DF6D91A4705}" type="slidenum">
              <a:rPr b="0" lang="es-MX"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14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15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C1D8-B5EB-482C-9AFD-B427EEB8D1A3}" type="slidenum">
              <a:rPr b="0" lang="es-MX"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14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15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6CA9-8A79-4D81-AD44-C497B60EDA1A}" type="slidenum">
              <a:rPr b="0" lang="es-MX"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2C1D-1657-4C97-B9B1-7A37539E4653}" type="slidenum">
              <a:rPr b="0" lang="es-MX"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E31C-D2E7-4182-BDF6-26F7F68C3FD9}" type="slidenum">
              <a:rPr b="0" lang="es-MX"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696464"/>
                </a:solidFill>
                <a:latin typeface="Perpetua"/>
              </a:rPr>
              <a:t>Redes de Precedencias y el Método de la Ruta Crítica</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Franklin Gothic Book"/>
              </a:rPr>
              <a:t>Capítulo 4</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96464"/>
                </a:solidFill>
                <a:latin typeface="Franklin Gothic Book"/>
              </a:rPr>
              <a:t>Redes de precedencias de actividades en los nodos (AON)</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Suponiendo que la red de precedencia no tiene ciclos, siempre existen en todas las redes una o más rutas del INICIO al FIN. Este tipo de red se llama red acíclica dirigida y se requiere para los cálculos que forman la base del método de la ruta crít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96464"/>
                </a:solidFill>
                <a:latin typeface="Franklin Gothic Book"/>
              </a:rPr>
              <a:t>Redes de precedencias de actividades en los arcos (AOA)</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método alternativo para representar redes de precedencia es el método de actividades en los arcos. En este caso los arcos de la red representan tareas, mientras que los nuevos representan eventos o puntos en el tiemp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96464"/>
                </a:solidFill>
                <a:latin typeface="Franklin Gothic Book"/>
              </a:rPr>
              <a:t>Comparación de las redes AOA con las redes AON</a:t>
            </a:r>
            <a:endParaRPr b="0" lang="en-US" sz="36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anto las redes AON como las redes AOA tienen ventajas y desventajas. Como se dijo es más sencillo explicar con las AON y los usuarios no técnicos las comprenden con mayor rapidez por otro lado, las redes AOA se usaron inicialmente con los modelos de PERT y CPM desarrollados en los años 50’s de manera que el concepto de AOA se estableció desde el principi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96464"/>
                </a:solidFill>
                <a:latin typeface="Franklin Gothic Book"/>
              </a:rPr>
              <a:t>Método de la ruta crítica (CPM): conceptos y cálculos</a:t>
            </a:r>
            <a:endParaRPr b="0" lang="en-US" sz="36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Como se indicó, una red o diagrama de flechas puede ser una representación conveniente de las relaciones de precedencia entre las tareas de un proyecto.  En estas redes AON se supondrá que los arcos representan relaciones inicio a terminación; es decir, todas las tareas predecesoras deben de haber terminado por completo antes de que pueda iniciar cualquier tarea sucesor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23:55:36Z</dcterms:created>
  <dc:creator>Eduardo Marín</dc:creator>
  <dc:description/>
  <dc:language>en-US</dc:language>
  <cp:lastModifiedBy>Eduardo Marín</cp:lastModifiedBy>
  <dcterms:modified xsi:type="dcterms:W3CDTF">2008-11-19T00:22:45Z</dcterms:modified>
  <cp:revision>4</cp:revision>
  <dc:subject/>
  <dc:title>Capítulo 4</dc:title>
</cp:coreProperties>
</file>