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996-4351-442F-9E89-436B2760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398-E88D-4D6E-821C-3CDFE931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B43-1202-48AC-85F9-73B318E6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468-4F1C-4E44-AE32-76054D66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6D5D-8964-4C72-96C5-79A1DB5E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C1FC-1568-469F-98D8-6AE5A773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9DC5-8304-42C3-AF4C-A1546B3F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3FC0-1632-4AB0-915C-63268D5D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CBD4-1E2F-4DA2-9698-25D932D3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4972-7796-44FB-9C09-F52570AB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ABCA-C958-4A20-9920-3F0CA634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5D8-2D8C-4860-9DB5-6EA3500B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FEAE-5241-4C9C-AAA1-ED0C51CC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F7E3-1BD8-4176-B569-5B9AEFAB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3CC5-81F0-4A2D-8BEC-82BF4E15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B761-81AF-416A-8FFC-3439A8B2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53BD-7D1E-4A9F-8F45-7D35657C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7B23-A2BE-4E2A-9C0B-8459E699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3FA3-F638-4527-83AC-C0141C6C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C701-E8D6-4EDE-9F04-77D7A729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06A74-EAE7-4F22-B57A-042EC803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B7D37-AA15-499C-8D66-9A0FB5EF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F2A-3AFE-4508-812D-B3A20CDD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DD0A7-479F-43D0-AB54-368A6F6A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33FF-604D-488E-8C03-48F867AA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2159-631C-4502-828E-F085A47B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52FD-CA89-4024-9D6D-B06D8550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5D15-B9F4-4F76-A716-51B27B55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FF371-1F65-43BD-BD5E-760DE663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984B7-A6AF-483C-A6C9-E2C1E5B3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E6A69-9E66-4269-8060-DBA3E1FD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F06A2-955C-4A34-8117-CA6A52D6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BDFCE-73A4-4DC2-A073-9E9B1949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915-3BA3-4665-B500-14280EE6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E8D5-EBE5-433B-A3B0-04032DDD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5DB98-CDC9-4C16-86A7-2728F26C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3D2FB-33A3-4996-A265-9B9EDE05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1CD4-A742-43E3-8BC6-8ED0F612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CF9E-5A7A-4FA2-8B7D-74D8BD6B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5367B-A5CE-40ED-84D4-5D00E36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C63FC-EEA7-48FE-96F3-B1883E26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493BC-5E3E-44D5-A5A6-39259A6A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5473-9345-4FD6-8B57-F9F78B87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90497-C36A-472F-AD8C-02D15851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404-2F94-452E-8150-73068838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3B09A-D32C-42CE-B91A-D1D26367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7F7CC-0F21-4694-B757-C436AE49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5F14F-AE14-4AC6-979E-C5624DD5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472CF-A3F5-4808-A729-2D291026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0B58C-3EC5-471A-8CF0-D228FEC8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D248-FF1D-492B-B896-97CAAF94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0A497-D065-473F-A570-7B35097D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B2FCE-0194-4AE8-AA5B-9DC48C5B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BCCBF-222B-4AA1-8151-AA4EDF2E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7B96A-E6AE-439D-AD58-8D665FD8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A18-0CD0-4EFB-9183-48C486D7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AAAB9-D39A-4A09-97E1-87E33396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A92-E047-4883-B833-8C2D371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ADD-3767-4F8E-80A7-B8A97464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F3F-EDF9-4A1F-BB12-B9CC088E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BB31-43D5-4CD6-B7FE-420CBE1F1098}" type="slidenum">
              <a:rPr b="0" lang="es-ES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E52A-0389-4263-9935-4C8705982CD6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0E31-F9F7-4700-90AD-061384DD5FDB}" type="slidenum">
              <a:rPr b="0" lang="es-ES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D1D5-0675-4198-B702-89C8A0F60683}" type="slidenum">
              <a:rPr b="0" lang="es-ES" sz="11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599D-E9A0-4C81-A1DE-E5AAD3E5B589}" type="slidenum">
              <a:rPr b="0" lang="es-ES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Equipos de proyecto y relaciones organizacional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686720" cy="1236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Un equipo de proyecto efectivo es mas que un grupo de individuos con una meta común. Como en los equipos de baloncesto o en las bandas de jazz, algunos grupos son mas efectivos que otros, aun cuando los miembros de un equipo tengan menores habilidades que los de otro. Coordinación, trabajo intensivo, motivación y habilidad para permanecer centrados en las metas importantes pueden ser las cualidades más valiosas de un equipo. Esto también es cierto para equipos de proyectos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91600" cy="1236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 equipo de proyecto multifunciónal reúne a muchos individuos con diversas habilidades, antecedentes y filosofías. Con frecuencia tiene miembros tanto internos como externos a la organizació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reto para el equipo es establecer una identidad como una sola unidad, desarrollar una sinergia de grupo que permita un desempeño de un nivel superior a la suma de sus part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os incentivos del proyecto proporcionan también un medio para asignar prioridades a los proyect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as prioridades en los proyectos suelen dar como resultado una reducción  en la duración esperada o tiempo de realización del proyecto en la mayoría de los entornos de proyectos multipl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Se asocian costos significativos a los equipos de proyecto; cuanto mayor sea el equipo, mayor será el costo de coordinación y comunicación, lo mismo que los costos de mano de obra directa. Sin embargo, menos miembros en el equipo puede dar como resultado que algunas funciones no estén bien representadas en el equipo y ocasionan un proceso de diseño mas largo o inadecuado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s una aplicación de equipos de proyecto estrechamente integrados a proyectos de tecnología de la información. El equipo del proyecto define y redefine el alcance del proyecto mientras trabaja en las tareas de codificación en pequeños incrementos. La programación extrema se caracteriza por una intensa colaboración, pruebas extensas y comunicación continu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18:51Z</dcterms:created>
  <dc:creator>Instituto Tecnologico de Nuevo Laredo</dc:creator>
  <dc:description/>
  <dc:language>en-US</dc:language>
  <cp:lastModifiedBy>Eduardo Marín</cp:lastModifiedBy>
  <dcterms:modified xsi:type="dcterms:W3CDTF">2008-11-19T00:22:06Z</dcterms:modified>
  <cp:revision>2</cp:revision>
  <dc:subject/>
  <dc:title>Capitulo 3</dc:title>
</cp:coreProperties>
</file>