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8D0-A28B-444B-936E-3A9A840D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360-5195-42DB-9799-383F32B2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D91A5A-0329-40BF-9A39-C60F9A90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38A51B-5E77-4DF8-AA61-638F69BC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408A0-8414-49E8-B883-BCEB8D7D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F292AA-472D-47BB-859D-207AADF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4001B-D4CF-4908-9628-F16755AF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F44B00-F921-41A5-A436-59E6A70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D20B03-0B76-4B36-9989-0E37D3FA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968795-B9B6-4A16-A090-E541DC27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3CC95E-FAF2-43A8-AF5A-4EE2BBCB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19C-0AC3-40FC-A1A9-5F85D939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59D-1FC5-4857-90EE-851A8668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E2759-6749-44E9-9834-827BCDE7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13BE6-5AF9-442B-81A9-C7713FC2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E5A52-BF9E-4AFA-B085-8D542106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FE21B-6BF4-4BCD-B110-1B423347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CC82B-8ECB-43C4-B9D9-83EF1A84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03AA5-E6DD-49DA-9A1B-68F32FF9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C15F5-FE88-4BE5-9594-7FDEF9D9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489-9316-4EEC-9E5B-CB1EC847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BA35B-C11D-4E54-940F-CBF00836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F99D6-95FD-403E-969A-A7CCA6A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01C05-D2E7-41EB-AEDB-9DCD348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B4092-8AF7-46A6-919F-47565573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76B0F-F2AE-4783-81DA-75391B7F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A3D9-2352-4B16-9542-3ACED261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A838-8FE8-48EB-9175-A9532346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21F55-7B9D-47A0-B9DA-34232884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2BEF-95F3-4342-A5F0-C44585BE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70EB-77BB-40D0-B40E-5A6B0028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B93-2EB8-480C-9F81-798B80FA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4584-A4CF-4922-939E-62356837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53F4-06F0-495C-812A-34FF245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C6F2-4E03-414A-9CC8-4D39B347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9C327-6A72-4FD9-9370-1B0D9B8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2E21-D794-47D1-A096-B62C60E5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DAA3A-8908-46D0-B153-1F23F97E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EC5E-960E-4B54-AD09-6E0756D1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DA4F0-B00C-41A0-A248-FCAE476D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56277-75FD-4B3A-A5F8-A6F5B94D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D071B-44EE-48BE-BFD4-C869BD34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446-4280-488F-AF61-EA3D5766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2D0C9-1FC9-449C-93A1-3648B518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B024D-DBFA-4C12-B227-D1EC898B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CD3D4-1863-4C0E-AE2C-F0304655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BBCA9-CE1D-4B48-9B77-FADB3C59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53C5D-6300-4C89-9CF0-7E943FE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B4074-D2E1-436C-A264-D0515F7C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2B720-38AC-46ED-B6E1-51578E0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91635-DC27-48B3-B1DB-8093E578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F607D-3962-4E73-BF6A-772BE946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5D00-C5F9-4211-BE31-D78106EA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8AD-6DCD-43BB-AF57-A4651F8F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8801-2E51-4DC8-BFD5-614B80BC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A9F25-11C1-4CEF-996D-00622A9F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32FB-8CC6-43DE-B3DD-D237F0D4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5801-22BF-4183-A84C-F01DF422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56CC0-A019-4AB3-A542-D0D8769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4A5B7-D3E4-42F7-BB04-9082A34B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605A7-058D-46E9-A2BA-93CFED2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A35DC-AB9C-413C-924E-D82BF50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97368-D8C2-473E-BB6F-06F9FF43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BB11-EF34-4CCD-8EA8-5B10FDB2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50C-15B7-4599-85BC-1E2F88A1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082C3-F1FC-4B02-9645-00718492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3969-CC25-4969-8557-67EB266F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54A5-4CE5-40A3-8E64-387FB7B6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C3CD-1B38-418F-9348-032E6147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EE871-E11A-49D1-9ACD-03E39345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DD675-B8EB-4093-8D46-C9F0AB90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F01F5-C3FD-48E4-9DA9-13E11169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8465-F21D-4633-969B-022FB42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DDA59-456E-44DD-B43E-892814D7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0BEE-B909-4D67-9755-9F286E6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DA9-4F7F-431F-BDE9-A21FCB48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3A837-7DF9-4586-A2A3-5E55346D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B7F15-95B3-4136-8DA4-7A4CA00B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28867-9A6F-4B09-A5AC-EAB89F74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DAED0-A783-442A-8351-382F0633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8E7E6-C1A4-432A-9ACF-A4AB7AE0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7A43-951C-4DE4-9B25-3768CC9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3DE6-E8E1-4863-B990-FEF962FE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ED67B-A5B0-4628-B7C7-5977231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1C710-71A2-4258-AE8B-7A78B739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40B27-97BC-4F84-AC63-C8C95166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D32-281F-40ED-B647-7ABFFFC0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AED1-971C-472E-9324-1ACB3E9C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9B7D-99F5-4F12-828E-D618A0E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1DA65-37C7-430A-BA9E-0865B7B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84C36-DC1C-4206-9CBF-2CD5E70F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2526A-922D-465F-AC64-FB499D13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1B7D1-3370-4626-BBE1-2DF4EBDB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AE30A-1CB8-4037-B857-420403EB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E24B01-393C-4ABB-AC61-20F2D001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8C7E79-F82C-41AA-B023-C7CB68AC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39CDB1-991A-4BF1-8847-1D7DAC5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8FE-C89D-498C-B920-8FDF4F6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616341-FBAE-4964-B39D-171AA60F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8C187-6F81-412C-B358-3BA8EBF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CB130D-FAD4-45A1-8AC6-90287837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1F37F4-3241-4F2D-AF47-3ECC8AB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BC4B04-F72F-4F3F-9C00-BD39BD71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80098-1D00-4B5F-8729-D21DC400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466708-0EE4-45F2-B6D7-B159C17B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76AD9-4926-4BE0-86FD-A46B37ED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566DBD-B29B-445E-800D-FA32D06E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CD8E3B-BFCC-442A-884C-C9D3E0DC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6FB-E633-47EA-83FD-22C0E3D30CBB}" type="slidenum">
              <a:rPr b="0" lang="es-MX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dondear rectángulo de esquina diagonal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7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0F6C-BB1D-4741-9F97-176786FE163F}" type="slidenum">
              <a:rPr b="0" lang="es-MX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B450-1D15-4DF2-B2B8-0E8757A32A1B}" type="slidenum">
              <a:rPr b="0" lang="es-MX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F7AE-460E-40FA-BCE0-DDD19C8A38F9}" type="slidenum">
              <a:rPr b="0" lang="es-MX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221D-723D-416D-8DC8-5EAAF0B73C99}" type="slidenum">
              <a:rPr b="0" lang="es-MX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7 Rectángulo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8 Rectángulo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9AC-C115-4DBF-A94C-A57E204AE332}" type="slidenum">
              <a:rPr b="0" lang="es-MX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BDEF-ECBA-4384-B342-2EC69E672BB8}" type="slidenum">
              <a:rPr b="0" lang="es-MX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Rectángulo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F9C7-E39F-4C60-B77E-021F746E0015}" type="slidenum">
              <a:rPr b="0" lang="es-MX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3525-47DC-4855-9E22-6FB6843D70C4}" type="slidenum">
              <a:rPr b="0" lang="es-MX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Planeación para minimizar costo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Es un documento crucial de la planeación y un vínculo de comunicación entre todos los interesados en el proyecto incluyendo al equipo del proyecto y  los departamentos funcionales de una organización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El contexto del presupuesto se deben considerar 4 tipos de costos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Rockwell"/>
              </a:rPr>
              <a:t>Costos directo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Rockwell"/>
              </a:rPr>
              <a:t>Costos de material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Rockwell"/>
              </a:rPr>
              <a:t>Costos directos e indirecto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Rockwell"/>
              </a:rPr>
              <a:t>Costos de penalización y/o bonificacion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420840" y="249120"/>
            <a:ext cx="85215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Uno de los aspectos difíciles relacionados con la preparación del presupuesto es cómo incorporar la incertidumbre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Dado que siempre existe incertidumbre respecto a factores como retraso programados, disponibilidad de empleados, pedidos de materiales, etc., quienes hacen la planeación del proyecto deben tratar de considerar éstas incertidumbres de manera explícita en el presupuesto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1 Título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626680" cy="1474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Los administradores por lo común negocian con el cliente un programa de pagos antes de iniciar el proyecto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601120" cy="1474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Rockwell"/>
              </a:rPr>
              <a:t>La administración de proyectos efectiva requiere decidir los intercambios o trueques entre diseños y las especificaciones de un proyecto y entre el tiempo y el costo de ejecución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Rockwell"/>
              </a:rPr>
              <a:t>Es común suponer una relación inversa entre los costos directos de una tarea dada y la duración estimada de esa tarea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Rockwell"/>
              </a:rPr>
              <a:t>Por ejemplo, el administrador de proyectos puede reducir el tiempo necesario para realizar una tarea asignándole más empleados, comprando o rentando equipo más rápido asignando tiempo extra, etc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En general se supone que las tareas no pueden iniciar hasta que se disponga del material necesario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Dado que los retrasos por falta de disponibilidad de materiales pueden ser costosos, parece obvio que objetos de bajo costos de ordena con suficiente anticipación a la realización de la tarea y se almacenen hasta que se necesite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48:17Z</dcterms:created>
  <dc:creator>Carlos David</dc:creator>
  <dc:description/>
  <dc:language>en-US</dc:language>
  <cp:lastModifiedBy>indocente</cp:lastModifiedBy>
  <dcterms:modified xsi:type="dcterms:W3CDTF">2008-11-06T20:21:43Z</dcterms:modified>
  <cp:revision>4</cp:revision>
  <dc:subject/>
  <dc:title>Capitulo 5</dc:title>
</cp:coreProperties>
</file>