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2A594-822C-4315-9AA4-898305FCE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AE46-C70F-4342-8F89-012D99BE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6CE6-DF21-48AA-9F98-3397EAD60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A19E9-A6D6-46C3-B42A-8FB898DE2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96E08-A934-4A5D-9ACC-61515D96A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10123-0423-48D2-93E9-D3B15E8AA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726D6-158A-4F0E-A5BC-5B9CDA7E0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00C87-5F3A-432C-8120-A8F8373B4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7DC43-C32E-4580-9068-9A584DC31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CA640-15E0-4770-B8C2-62C976C26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6B988-BA72-4FB9-B68A-2CE1391E3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48E78-001A-4AA7-8B44-3059B2E0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B6F4-12F5-4D62-947F-EA5E5D3CF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C0842-1E4A-4871-A500-741E170A9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AB74A-0619-436C-BFB5-BC1FCB1F7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E1321-F0B6-48B2-BA1B-FF3BC2993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E4638-1D33-43C4-BE42-E91903191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E3150B7-D0E2-4EBE-A86C-1BD5CA87C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79CE50-A4B1-4607-A6CE-62C40A9AF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720898-6540-4958-9E95-A9FD991AB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ED3539-452C-415C-8376-0FDE792C8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5E087C-3DA3-4231-8D64-FAF3CB2AE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9843-CDEB-481B-8E34-7444F67A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ADE536-5CC7-4623-84C4-DA8452224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20B38B-A3AB-4EBC-8151-CFB80FB36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6F5F33-71A1-494C-B86A-2B40E88C9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0E8639-038C-4E8E-BF8D-5B8EF3B2E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C0048F-23AB-49BE-A3EB-6725E210F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D35C99-E592-4193-8E4A-196B43098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88C7119-42DD-4BE3-B967-09660D6C4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99BA56-9F49-4A46-AD9A-42323984FB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821D6A-D38B-410A-A198-85983FEB9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D35F79-A482-4F00-B58A-05A3CD3E3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6923-5002-4A5E-9CCE-2E9C5873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4FDF4F-3A5D-4861-9DF8-328E6B8DB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28D48E-8537-4405-81B1-605FBB106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32385C-0A04-4BF3-8C36-C8951A3BB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86E990-CC0A-4C5D-9E21-01D3C08E6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5620A5-E02D-498D-9516-1031083FC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D30D70-021D-46F2-B63B-55254076E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45F7A0-44B6-4F6E-A044-11F6C5C5D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45A813-62B4-43AF-A1BA-229A852C35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D2BD61-98E3-4397-A34B-85221BD15B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5ADB7C-B98E-424D-9034-D25B47F2F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35FA-94D3-4E2C-82AD-F10FB6DF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C8C90A-E429-4D7D-B0C2-F27CC175D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011D7B-D565-4E6B-ADBB-0FBA1CC78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F1CE48-1937-4554-8EC6-3E2DD2673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0851CA-462B-4547-B6C7-529153FFD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8D72A3-1B86-439B-B3B3-4F200DA28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59ED58-1D4D-44BA-9930-84DFEC2E4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F5E8F6-F4E0-4504-B493-74721A3CF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7F38F8-0043-4111-BAC8-EFF6D21CB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74B250-A1EF-4167-BECE-8607FD6FF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3E1173A-77EA-45B1-B523-719E7A4B80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F25A-4709-498C-9724-035B5787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F667D8-900E-4E68-A84E-A77BB88F38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6A4EC-0662-4F4A-B683-18595A230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5DB1F-BF44-45C3-866E-DF3FEE744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68E16-AF9F-4B9F-AEED-1D5C4CFBB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454A8-07F7-47BF-8FB9-5CE0DA43D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AAA96-2AB5-4332-ACEB-D07D0A3EC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63D1C-AAF5-4801-A034-7BE8EB658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F192D-7039-4DE5-9192-38C9F0FAE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2FD59-6CD0-4BB2-B876-C7162C3DF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3A561-5CBF-4CFF-B3B2-5CB9FBC79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4C0B-D14B-4468-A33B-F5606B7C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09CC5-4EB7-45D4-BA04-B47EF6AEE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627E39-0434-4D16-98A0-23051ED34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6EDFFF-32D3-4AC1-9E67-551B5075B9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532DEF3-2517-4E26-B1FE-275B81C1C1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6F4A75-1B77-4CE9-A50D-C75D95B95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AD09C8-EF11-4BFB-8831-2D9A8B53D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AB05AFE-A7AF-4A7D-B5DB-B0996CAAC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CB0653-1224-4EB5-B76F-C0F364A23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665899-3A60-42B3-AE67-8C639E490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5C6616-C334-4804-AAE9-EEF8B2703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0B6F-AA2C-456F-800F-C93DDD1E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C6FF16-CC08-44D8-9FDD-D037B9773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C951D4-727D-4CEA-8E85-9D1B4D40D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610B2B-6C36-40B7-B2C5-C737270D9E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CF77B87-51FC-4CF0-9F71-82EC1B933D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797BC7C-D426-4C1B-AC9B-2BE7207268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F938D-A8C6-499B-88E9-63D4285D4E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D2974-575B-426C-A8F4-2B33D43455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D6DA23-5CBA-421B-B9E0-625ECF691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46E17-2823-4D2B-8903-7E1BEBB2A4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79A0A-504E-4023-A3E7-1D23E1E7D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6388-E13F-4099-8EAA-EE780A7F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EECAE-5428-4EAB-A8A0-72EE98E28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12448-7902-4431-AEB3-6E8559100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E7E88-9CEC-4E2C-84D8-64B2D8754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61B6D-E445-4DD2-BE4B-1185608BC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F4E338-A59C-4675-ABFF-46307A43A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4611F-BFCE-40C8-B05E-941D743548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FB9B4E-B7A1-4C68-8B16-709CFF1B4F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4929-1D00-4716-BA70-FCD4A510A403}"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DE70-9F1A-4CF6-BE90-A082609AF973}" type="slidenum">
              <a:rPr b="1" lang="es-MX"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CCAC-9DC3-4E8A-8683-017E97B5E200}" type="slidenum">
              <a:rPr b="1" lang="es-MX"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DAB3-EEBC-432E-858F-5EC8E51307FD}"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28DC-9F66-4D08-96E4-B28E4109E1FC}"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A37D-5126-4A44-AC9F-25690E109508}" type="slidenum">
              <a:rPr b="1" lang="es-MX"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D7E9-4A9B-4FB4-8E40-D9E2DB063382}" type="slidenum">
              <a:rPr b="1" lang="es-MX"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EE63-757E-4E70-9A78-02E8022BE4D8}" type="slidenum">
              <a:rPr b="1"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ded1"/>
                </a:solidFill>
                <a:latin typeface="Tw Cen MT"/>
              </a:rPr>
              <a:t>INICIO, SELECCIÓN Y PLANEACIÓN DE UN PROYECTO</a:t>
            </a:r>
            <a:endParaRPr b="0" lang="en-US" sz="4000" spc="-1" strike="noStrike">
              <a:solidFill>
                <a:srgbClr val="e3ded1"/>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23232"/>
                </a:solidFill>
                <a:latin typeface="Tw Cen MT"/>
              </a:rPr>
              <a:t>Inicio y selección de un proyecto</a:t>
            </a:r>
            <a:endParaRPr b="0" lang="en-US" sz="4400" spc="-1" strike="noStrike">
              <a:solidFill>
                <a:srgbClr val="323232"/>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En general, los proyectos se pueden iniciar de arriba abajo o de abajo arriba. Para todo proyecto propuesto puede solicitarse la información siguiente a aquellos que lo proponen. Aunque no se pretende que esta lista sea exhaustiva, si representa una recopilación de lo que el autor ha observado en numerosas empresas que han tenido éxito. Algunos formatos para iniciar proyectos usan una lista de verificación, mientras que en otros simplemente solicitan información sobre los siguientes tema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571400"/>
            <a:ext cx="8229600" cy="4554360"/>
          </a:xfrm>
          <a:prstGeom prst="rect">
            <a:avLst/>
          </a:prstGeom>
          <a:noFill/>
          <a:ln w="0">
            <a:noFill/>
          </a:ln>
        </p:spPr>
        <p:txBody>
          <a:bodyPr lIns="90000" rIns="90000" tIns="46800" bIns="46800" anchor="t">
            <a:normAutofit fontScale="93000"/>
          </a:bodyPr>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Nombre del proyec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Administración de proyecto, división o departamento propues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Breve descripción del problema que estudiara</a:t>
            </a:r>
            <a:r>
              <a:rPr b="0" lang="es-MX" sz="2400" spc="-1" strike="noStrike">
                <a:solidFill>
                  <a:srgbClr val="000000"/>
                </a:solidFill>
                <a:latin typeface="Tw Cen MT"/>
              </a:rPr>
              <a:t> el proyec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Beneficios del proyec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Tiempo y costos estimados del proyec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se subcontratara o si el personal de la empresa realizara el proyect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Impacto sobre la seguridad de la fuerza de trabajo</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Impacto sobre los requerimientos de energia</a:t>
            </a:r>
            <a:endParaRPr b="0" lang="en-US" sz="2400" spc="-1" strike="noStrike">
              <a:solidFill>
                <a:srgbClr val="000000"/>
              </a:solidFill>
              <a:latin typeface="Tw Cen MT"/>
            </a:endParaRPr>
          </a:p>
          <a:p>
            <a:pPr marL="296280" indent="-2962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Impacto sobre los cliente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23232"/>
                </a:solidFill>
                <a:latin typeface="Tw Cen MT"/>
              </a:rPr>
              <a:t>Medidas numéricas</a:t>
            </a:r>
            <a:endParaRPr b="0" lang="en-US" sz="4400" spc="-1" strike="noStrike">
              <a:solidFill>
                <a:srgbClr val="323232"/>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s medidas numéricas se usan a menudo como ayuda en la selección de un proyecto. Aunque muchas veces se critica a estas medidas, pueden proporcionar una mejor comprensión de los costos y beneficios explícitos de un proyecto propuesto. La mayoría de las organizaciones usan estas medidas junto con otros elementos de juicio para validar sus decisiones de emprender o no un proyect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23232"/>
                </a:solidFill>
                <a:latin typeface="Tw Cen MT"/>
              </a:rPr>
              <a:t>Periodo de recuperación </a:t>
            </a:r>
            <a:endParaRPr b="0" lang="en-US" sz="4400" spc="-1" strike="noStrike">
              <a:solidFill>
                <a:srgbClr val="323232"/>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el numero de periodos necesarios para recuperar el costo del proyecto. En general el periodo de recuperación se define como sigu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periodo de recuperación=costo estimado del proyecto / ahorros anual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8:20:22Z</dcterms:created>
  <dc:creator>Eduardo Marín</dc:creator>
  <dc:description/>
  <dc:language>en-US</dc:language>
  <cp:lastModifiedBy>Eduardo Marín</cp:lastModifiedBy>
  <dcterms:modified xsi:type="dcterms:W3CDTF">2008-10-05T19:06:49Z</dcterms:modified>
  <cp:revision>5</cp:revision>
  <dc:subject/>
  <dc:title>Inicio, selección y planeación de un proyecto</dc:title>
</cp:coreProperties>
</file>