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47AC5-83BF-4D88-9246-6064A3AE8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8E6B3-22FA-4EE5-9390-E0C521980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063B4-9614-4DED-9A35-C98CDF1EB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C8D4D-7129-4D19-9440-963AB0EED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5CAFE2-66B4-44E6-9617-6CA88A529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2CA04-4A72-4C0B-A442-0E914C006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008DF-4A2A-4038-A969-68095FF40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FFD26-2D7E-47EB-8930-6BCE65848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B38E5-51AE-4599-ACE1-832E34E3C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8BDD6-434A-4718-81DA-DEE23A2F6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DD9C3-5BDE-422E-A5D7-07F797A8F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B6571-7F0A-4FD2-9A4D-F36F6DE24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4574B-5CFA-4254-8AD9-F59401EC5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FCF57-4206-4AA3-BC85-FB7DE7130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4D09E-A80A-4F7D-9265-1A701D82D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8D06E6-B4B8-4E56-9A18-AA785A0EEF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A5DF5E-F448-4FD6-A8BB-067BD50126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A2A140B-6E9B-4E40-BFAD-B1CB3C3569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8C7269E-90FF-48A5-B7CF-64068C1159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50B6FC5-DEF7-4956-9218-D59FF934D8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E723023-75BE-4564-ABAA-783E40C8C1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B029239-EAC6-4CFC-9D9D-134A73AB36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1797E-C00D-41B7-B4CF-2FC4ACE17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F419B30-08AD-4027-85B6-5ADCE0FEAD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1A3B10D-4AD2-450A-AFFE-7B97D4B97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5F292FD-9ABC-43B1-A6B7-D79C1C1EB4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6C806B-036B-4BB4-AC0C-F1FECD0F0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161F146-96C2-4C15-BC3F-C6243E1020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6C97FBA-BFC2-4C17-A4D4-8863EB3FF0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F42CF1E-5273-4975-9A61-07C73607F9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87C7035-782F-49AB-B047-81D21118AD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2ED00F6-197E-4FD3-AD98-6416CF7D6D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AA691E7-7BA8-4D0C-8AFD-7E2C793109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42722-137A-43EA-BE1E-C2AA05941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CC7C5E9-0699-442E-8479-35204277DE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4A58A6D-1868-4352-9FCE-1FEF291901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37272E-7F2D-476C-B29C-18A7A64BDE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4AEF71F-C87C-48F7-A504-33C3615ED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BAFECDA-386E-4533-9BD5-848D5DB384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E2A1585-FE78-4733-84F9-897FDA5D19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03D2320-5762-4496-B99B-25ACD382DF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DF206C2-2CBD-45D6-A012-86CA490074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C8275C3-16C6-4E00-898F-C834B54952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FEE0DA0-1C7F-4600-824C-D3C17CD6E9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A5170-31DB-47D2-9F45-FDD8B776C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EEBE5A5-71DB-490E-A7C2-CE9C65874F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4C8E4D1-F6E9-4DED-96FF-366087D1B5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FD9C799-004C-4C07-8D25-C96A835993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A7660A-9627-43FF-8764-76173B33D7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3992C21-826C-4EA1-B687-07E8CF7380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B20A2F-8309-4AF6-9EF8-9B277252B6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86B753-FBD7-482F-B18F-7D742626A5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4E804B-4FE1-4BDA-801B-1121AD8C48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78AC6B1-4684-49EE-B69F-C2ACBB7BDD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62B7D38-3BDC-4F3F-A91E-481409CE80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F822C-4B93-437C-8C3C-094731E2F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5929DEB-A6E0-4569-AE28-C1CB748640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D6417B-1829-41BB-8F94-58385D0463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61C49F-CF74-4626-BB87-2E8EFCDE46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8B2532-CC8F-4F9A-97E2-8012C7E74D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06C1DE-9DE5-4CF2-9623-3B44051152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0F799D-1B46-42C0-8B82-E871AFE6A4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38A975-AA66-4274-B01D-F5BF08B5C7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B5B171-EDF3-4804-B6C0-3ABE789EC5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9FBF05-1DD7-4367-A65F-6EF6378F9E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6E5E15-5CDB-4A55-B7D4-030A7576CF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61858-EE88-48B8-885C-2C2C32F27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21BA51-48B4-4F9D-A13A-B63FEF5FF3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B39BB4-1BE7-40F4-8126-665B68C76E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D877FD-3548-4CCC-AC4E-24EE034DC3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1D56487-F263-4C24-9105-A741FB45B8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2C9D03C-AE5B-49E3-9EDC-2A388AF203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67EDBCF-02E5-49F3-B37A-4A5FE1BE33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26CC0B9-9767-48B8-9D37-1ACE94B9B3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9905940-FB1F-4269-AEF2-B069B06557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01FDD19-7010-40DF-A7F0-4349C522B5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D7985AE-A6DC-41CA-BB4B-AE3313DCDF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B4F62-5EC2-4722-9F55-3F437BDF8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580C6F1-12EF-4621-B033-F20751ECB2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BD2A9BD-FBF5-47E6-A977-9CFC74D6E1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2A930B2-A8E7-41F1-BFE9-1FF2D19F80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F4B1086-42BF-46D3-A684-D850D58A6A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E02D25E-D26E-4483-8C53-699B4EB880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041578-3E04-4752-A555-EA0BAECE75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158A4E-B5C4-4592-BD09-F30DC5F093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AC6141-8AAE-4D13-9C8A-A4E1D05805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32D414-D7FC-4106-8737-8F8A706590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315809-445A-438D-AD0A-E8E51E95E3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AF463-446C-4A4A-8853-1FC0CD900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DE77F5-55B0-4FCC-A1EF-956C45C3F9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AAEE70-D64D-4047-A3B5-CC58D09888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D7F902-C5AC-4CB9-AA96-43E67A2126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FDE030-E003-4D76-A439-BC2EDF156A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6BD835-D2E2-47EF-A16E-BB2209AD94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22706C-257E-421A-9A1D-E93BEAB757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8EC207-7EFD-4293-B076-969CD0987D2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0CF4-ABA1-4584-8214-B77A71B28D98}" type="slidenum">
              <a:rPr b="1"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6740-0F7B-42CF-B107-2066EAD04388}" type="slidenum">
              <a:rPr b="1" lang="es-MX"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7C48-EC7A-4A2D-B79A-E3A0D5F9D6EC}" type="slidenum">
              <a:rPr b="1" lang="es-MX"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9517-5772-408F-B9F2-CA1268770DFC}" type="slidenum">
              <a:rPr b="1"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5A5B9-B420-4BFA-98D3-51809E5BED7E}" type="slidenum">
              <a:rPr b="1"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06ED2-4816-4124-99BD-1E5E16E2E0B8}" type="slidenum">
              <a:rPr b="1" lang="es-MX"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14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CAF0-DF2F-47B5-9892-E20A47190755}" type="slidenum">
              <a:rPr b="1" lang="es-MX"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2A736-122E-4136-9F70-49A0D94F3291}" type="slidenum">
              <a:rPr b="1"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bddc3"/>
                </a:solidFill>
                <a:latin typeface="Tw Cen MT"/>
              </a:rPr>
              <a:t>CAPÍTULO 6</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w Cen MT"/>
              </a:rPr>
              <a:t>Planeación con Incertidumbre</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ón de PERT clásico</a:t>
            </a:r>
            <a:endParaRPr b="0" lang="en-US" sz="4400" spc="-1" strike="noStrike">
              <a:solidFill>
                <a:srgbClr val="775f55"/>
              </a:solidFill>
              <a:latin typeface="Tw Cen MT"/>
            </a:endParaRPr>
          </a:p>
        </p:txBody>
      </p:sp>
      <p:sp>
        <p:nvSpPr>
          <p:cNvPr id="353" name=""/>
          <p:cNvSpPr txBox="1"/>
          <p:nvPr/>
        </p:nvSpPr>
        <p:spPr>
          <a:xfrm>
            <a:off x="457200" y="1599840"/>
            <a:ext cx="8229600" cy="4971960"/>
          </a:xfrm>
          <a:prstGeom prst="rect">
            <a:avLst/>
          </a:prstGeom>
          <a:noFill/>
          <a:ln w="0">
            <a:noFill/>
          </a:ln>
        </p:spPr>
        <p:txBody>
          <a:bodyPr lIns="90000" rIns="90000" tIns="46800" bIns="46800"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l sistema PERT desarrollado para la oficina de proyectos especiales supone que los tiempos de las tareas se pueden describir mediante una distribución beta.</a:t>
            </a:r>
            <a:endParaRPr b="0" lang="en-US" sz="29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ERT clásico supone que los administradores pueden estimar 3 puntos para cada tarea:</a:t>
            </a:r>
            <a:endParaRPr b="0" lang="en-US" sz="2900" spc="-1" strike="noStrike">
              <a:solidFill>
                <a:srgbClr val="000000"/>
              </a:solidFill>
              <a:latin typeface="Tw Cen MT"/>
            </a:endParaRPr>
          </a:p>
          <a:p>
            <a:pPr lvl="1" marL="620280" indent="-2646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Tw Cen MT"/>
              </a:rPr>
              <a:t>t</a:t>
            </a:r>
            <a:r>
              <a:rPr b="0" i="1" lang="es-ES" sz="2600" spc="-1" strike="noStrike" baseline="30000">
                <a:solidFill>
                  <a:srgbClr val="000000"/>
                </a:solidFill>
                <a:latin typeface="Tw Cen MT"/>
              </a:rPr>
              <a:t>0</a:t>
            </a:r>
            <a:r>
              <a:rPr b="0" i="1" lang="es-ES" sz="2600" spc="-1" strike="noStrike">
                <a:solidFill>
                  <a:srgbClr val="000000"/>
                </a:solidFill>
                <a:latin typeface="Tw Cen MT"/>
              </a:rPr>
              <a:t> = estimación del tiempo más optimista</a:t>
            </a:r>
            <a:endParaRPr b="0" lang="en-US" sz="2600" spc="-1" strike="noStrike">
              <a:solidFill>
                <a:srgbClr val="000000"/>
              </a:solidFill>
              <a:latin typeface="Tw Cen MT"/>
            </a:endParaRPr>
          </a:p>
          <a:p>
            <a:pPr lvl="1" marL="620280" indent="-2646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Tw Cen MT"/>
              </a:rPr>
              <a:t>t</a:t>
            </a:r>
            <a:r>
              <a:rPr b="0" i="1" lang="es-ES" sz="2600" spc="-1" strike="noStrike" baseline="30000">
                <a:solidFill>
                  <a:srgbClr val="000000"/>
                </a:solidFill>
                <a:latin typeface="Tw Cen MT"/>
              </a:rPr>
              <a:t>p</a:t>
            </a:r>
            <a:r>
              <a:rPr b="0" i="1" lang="es-ES" sz="2600" spc="-1" strike="noStrike">
                <a:solidFill>
                  <a:srgbClr val="000000"/>
                </a:solidFill>
                <a:latin typeface="Tw Cen MT"/>
              </a:rPr>
              <a:t> = estimación del tiempo más pesimista</a:t>
            </a:r>
            <a:endParaRPr b="0" lang="en-US" sz="2600" spc="-1" strike="noStrike">
              <a:solidFill>
                <a:srgbClr val="000000"/>
              </a:solidFill>
              <a:latin typeface="Tw Cen MT"/>
            </a:endParaRPr>
          </a:p>
          <a:p>
            <a:pPr lvl="1" marL="620280" indent="-2646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Tw Cen MT"/>
              </a:rPr>
              <a:t>t</a:t>
            </a:r>
            <a:r>
              <a:rPr b="0" i="1" lang="es-ES" sz="2600" spc="-1" strike="noStrike" baseline="30000">
                <a:solidFill>
                  <a:srgbClr val="000000"/>
                </a:solidFill>
                <a:latin typeface="Tw Cen MT"/>
              </a:rPr>
              <a:t>m</a:t>
            </a:r>
            <a:r>
              <a:rPr b="0" i="1" lang="es-ES" sz="2600" spc="-1" strike="noStrike">
                <a:solidFill>
                  <a:srgbClr val="000000"/>
                </a:solidFill>
                <a:latin typeface="Tw Cen MT"/>
              </a:rPr>
              <a:t> = estimación del tiempo más probable</a:t>
            </a:r>
            <a:endParaRPr b="0" lang="en-US" sz="2600" spc="-1" strike="noStrike">
              <a:solidFill>
                <a:srgbClr val="000000"/>
              </a:solidFill>
              <a:latin typeface="Tw Cen MT"/>
            </a:endParaRPr>
          </a:p>
          <a:p>
            <a:pPr lvl="1" marL="620280" indent="-2646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Limitaciones del Modelo PERT clásico</a:t>
            </a:r>
            <a:endParaRPr b="0" lang="en-US" sz="4000" spc="-1" strike="noStrike">
              <a:solidFill>
                <a:srgbClr val="775f55"/>
              </a:solidFill>
              <a:latin typeface="Tw Cen MT"/>
            </a:endParaRPr>
          </a:p>
        </p:txBody>
      </p:sp>
      <p:sp>
        <p:nvSpPr>
          <p:cNvPr id="355" name=""/>
          <p:cNvSpPr txBox="1"/>
          <p:nvPr/>
        </p:nvSpPr>
        <p:spPr>
          <a:xfrm>
            <a:off x="457200" y="1600200"/>
            <a:ext cx="8229600" cy="4757760"/>
          </a:xfrm>
          <a:prstGeom prst="rect">
            <a:avLst/>
          </a:prstGeom>
          <a:noFill/>
          <a:ln w="0">
            <a:noFill/>
          </a:ln>
        </p:spPr>
        <p:txBody>
          <a:bodyPr lIns="90000" rIns="90000" tIns="46800" bIns="46800"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l modelo PERT clásico ha sido criticado en muchos aspectos, incluyendo los problemas asociados con la estimación precisa de la duración optimista, pesimista y más probable de cada tarea.</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Otro problema es el relacionado con la elección aparentemente arbitraria de la distribución beta y de las fórmulas para aproximar la media y la varianza de las tarea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7200" y="1571400"/>
            <a:ext cx="8229600" cy="4554360"/>
          </a:xfrm>
          <a:prstGeom prst="rect">
            <a:avLst/>
          </a:prstGeom>
          <a:noFill/>
          <a:ln w="0">
            <a:noFill/>
          </a:ln>
        </p:spPr>
        <p:txBody>
          <a:bodyPr lIns="90000" rIns="90000" tIns="46800" bIns="46800"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w Cen MT"/>
              </a:rPr>
              <a:t>Un problema más es la suposición de que las duraciones de las tareas son independientes, lo cual, por supuesto, muchas veces no se cumplen.</a:t>
            </a:r>
            <a:endParaRPr b="0" lang="en-US" sz="36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w Cen MT"/>
              </a:rPr>
              <a:t>Sin embargo, el problema más significativo del PERT clásico es el ilustrado en la siguiente figura:</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Modelos de Simulación Monte Carlo</a:t>
            </a:r>
            <a:endParaRPr b="0" lang="en-US" sz="4000" spc="-1" strike="noStrike">
              <a:solidFill>
                <a:srgbClr val="775f55"/>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La simulación Monte Carlo es un proceso iterativo que da valores a las variables aleatorias haciendo un muestreo de la distribución respectiva de cada variable; después usa estos valores para calcular la ruta crítica, las holguras, etc.</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Otras implicaciones de la incertidumbre en el proyecto</a:t>
            </a:r>
            <a:endParaRPr b="0" lang="en-US" sz="4000" spc="-1" strike="noStrike">
              <a:solidFill>
                <a:srgbClr val="775f55"/>
              </a:solidFill>
              <a:latin typeface="Tw Cen MT"/>
            </a:endParaRPr>
          </a:p>
        </p:txBody>
      </p:sp>
      <p:sp>
        <p:nvSpPr>
          <p:cNvPr id="360" name=""/>
          <p:cNvSpPr txBox="1"/>
          <p:nvPr/>
        </p:nvSpPr>
        <p:spPr>
          <a:xfrm>
            <a:off x="612720" y="1599840"/>
            <a:ext cx="8153280" cy="42577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Cuando se reconocen que las duraciones de las tareas son variables aleatorias, se encuentran numerosas implicaciones que son administrativamente significativa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ara ilustrar esto, se considera inicialmente un proyecto sencillo con sólo 2 tareas que se pueden realizar simultáneament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Las duraciones de las 2 tareas son variables aleatorias que pueden describirse por una distribución simétrica con una duración media de 30 días, se supondrá también que se ha dado una fecha de entrega dentro de 30 día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00:16:23Z</dcterms:created>
  <dc:creator>Carlos David</dc:creator>
  <dc:description/>
  <dc:language>en-US</dc:language>
  <cp:lastModifiedBy>Carlos David</cp:lastModifiedBy>
  <dcterms:modified xsi:type="dcterms:W3CDTF">2008-11-05T00:36:42Z</dcterms:modified>
  <cp:revision>3</cp:revision>
  <dc:subject/>
  <dc:title>Capítulo 6</dc:title>
</cp:coreProperties>
</file>